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D8B-D9C6-4D17-B04B-779E1045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6E5-6DCC-4879-A366-B3268A42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8E6-7A14-464A-803A-3ED5E2D2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33D-F3B8-4E10-8922-E5A1EA42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0F5-40A1-493E-B377-F92FBCA2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AC9-C238-4338-9FC3-8677A60F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5FB-A42C-4282-82C8-D08F3C7C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49A-34DD-4422-A270-A1CD10F8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1322-6F41-4240-8BBD-5FB6A763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3CA-C7EC-4A38-9688-5EC55539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F58-2BC3-4AF1-A911-2B99E106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DBB-767B-4C21-A5EC-CAF52668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721D-5053-4B5D-8715-FACFFC498D4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44280"/>
            <a:ext cx="795672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. Т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о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о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а из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ършили с Христ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а к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атана и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вет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ва Библията нарич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лаз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а о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к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700280"/>
            <a:ext cx="521964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2. Т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ое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ог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е извършил съ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в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 на к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включ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 в себ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 с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К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а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Хри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292640"/>
            <a:ext cx="543564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3. Т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ое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ог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 из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шил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човечест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в Хри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а к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ва издига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ден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лан сам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к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8360" y="4869000"/>
            <a:ext cx="698328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ко бяхте от света, светът щеше да люби своето; а понеже не сте от света, но Аз ви избрах от света, затова светът ви мра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64360" y="63784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66"/>
                </a:solidFill>
                <a:latin typeface="Tahoma"/>
              </a:rPr>
              <a:t>Ин. 15: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349360"/>
            <a:ext cx="5580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о и всички, които искат да живеят благочестиво в Хрис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су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ще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 го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н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689040"/>
            <a:ext cx="3456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66"/>
                </a:solidFill>
                <a:latin typeface="Tahoma"/>
              </a:rPr>
              <a:t>2 Тим. 3: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201760"/>
            <a:ext cx="3960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злезте от нея, люде Мо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 да не участвате в греховете и и да не споделите язвите 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6922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66"/>
                </a:solidFill>
                <a:latin typeface="Tahoma"/>
              </a:rPr>
              <a:t>Откр. 18: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332000" y="2128680"/>
            <a:ext cx="78120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ко и да е числото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зраил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яните като морски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, 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сам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ста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к от тях ще се спаси; защото Господ ще изпълни на земята казаното п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рав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 от Нег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като го извърши и свърши скор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1125360"/>
            <a:ext cx="295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66"/>
                </a:solidFill>
                <a:latin typeface="Tahoma"/>
              </a:rPr>
              <a:t>Рим. 9:27,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2276640"/>
            <a:ext cx="4284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ния, които люб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з ги и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облич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м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 наказв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м; затова бъди ревностен да се покаеш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6922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66"/>
                </a:solidFill>
                <a:latin typeface="Tahoma"/>
              </a:rPr>
              <a:t>Откр. 3: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268280"/>
            <a:ext cx="4788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Защото, ето, Аз ще заповядам и ще пресея Израилевия дом между всичките народи, както се пресява житото в решетото; обаче ни най-малко зърно няма да падне на земят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43280" y="62064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66"/>
                </a:solidFill>
                <a:latin typeface="Tahoma"/>
              </a:rPr>
              <a:t>Амос 9: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1280" y="1125360"/>
            <a:ext cx="5040360" cy="476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щото на това сте призовани; понеже и Христос пострада за вас, и ви остави пример да последвате по Неговите стъпк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i="1" lang="ru-RU" sz="3600" spc="-1" strike="noStrike">
                <a:solidFill>
                  <a:srgbClr val="ff9966"/>
                </a:solidFill>
                <a:latin typeface="Tahoma"/>
              </a:rPr>
              <a:t>(1 Петр. 2:21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812000" y="0"/>
            <a:ext cx="13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9999"/>
                </a:solidFill>
                <a:latin typeface="Symbol"/>
                <a:ea typeface="Symbol"/>
              </a:rPr>
              <a:t>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640" cy="77749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bbe0e3"/>
                </a:solidFill>
                <a:latin typeface="Symbol"/>
                <a:ea typeface="Symbol"/>
              </a:rPr>
              <a:t>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333360"/>
            <a:ext cx="3600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</a:t>
            </a:r>
            <a:r>
              <a:rPr b="1" lang="bg-BG" sz="3200" spc="-1" strike="noStrike">
                <a:solidFill>
                  <a:srgbClr val="ffffcc"/>
                </a:solidFill>
                <a:latin typeface="Symbol"/>
                <a:ea typeface="Symbol"/>
              </a:rPr>
              <a:t></a:t>
            </a:r>
            <a:r>
              <a:rPr b="1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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484280"/>
            <a:ext cx="3527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</a:t>
            </a:r>
            <a:r>
              <a:rPr b="1" lang="bg-BG" sz="3200" spc="-1" strike="noStrike">
                <a:solidFill>
                  <a:srgbClr val="ffffcc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</a:t>
            </a:r>
            <a:r>
              <a:rPr b="1" lang="bg-BG" sz="3200" spc="-1" strike="noStrike">
                <a:solidFill>
                  <a:srgbClr val="ffffcc"/>
                </a:solidFill>
                <a:latin typeface="Symbol"/>
                <a:ea typeface="Symbol"/>
              </a:rPr>
              <a:t></a:t>
            </a:r>
            <a:r>
              <a:rPr b="1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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637000"/>
            <a:ext cx="3456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</a:t>
            </a:r>
            <a:r>
              <a:rPr b="1" lang="bg-BG" sz="3200" spc="-1" strike="noStrike">
                <a:solidFill>
                  <a:srgbClr val="ffffcc"/>
                </a:solidFill>
                <a:latin typeface="Symbol"/>
                <a:ea typeface="Symbol"/>
              </a:rPr>
              <a:t></a:t>
            </a:r>
            <a:r>
              <a:rPr b="1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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716280"/>
            <a:ext cx="3816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</a:t>
            </a:r>
            <a:r>
              <a:rPr b="1" lang="bg-BG" sz="3200" spc="-1" strike="noStrike">
                <a:solidFill>
                  <a:srgbClr val="ffffcc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</a:t>
            </a:r>
            <a:r>
              <a:rPr b="1" lang="bg-BG" sz="3200" spc="-1" strike="noStrike">
                <a:solidFill>
                  <a:srgbClr val="ffffcc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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4797360"/>
            <a:ext cx="396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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5877000"/>
            <a:ext cx="3456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</a:t>
            </a:r>
            <a:r>
              <a:rPr b="1" lang="bg-BG" sz="3200" spc="-1" strike="noStrike">
                <a:solidFill>
                  <a:srgbClr val="ffffcc"/>
                </a:solidFill>
                <a:latin typeface="Symbol"/>
                <a:ea typeface="Symbol"/>
              </a:rPr>
              <a:t></a:t>
            </a:r>
            <a:r>
              <a:rPr b="1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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140360" y="4365720"/>
            <a:ext cx="500364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Сто четиридесет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и четири и 1000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         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и 1000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            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1888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6381720"/>
            <a:ext cx="4748040" cy="74520"/>
          </a:xfrm>
          <a:prstGeom prst="rect">
            <a:avLst/>
          </a:prstGeom>
          <a:solidFill>
            <a:srgbClr val="bbe0e3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5516640"/>
            <a:ext cx="2781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cc00"/>
                </a:solidFill>
                <a:latin typeface="Symbol"/>
                <a:ea typeface="Symbol"/>
              </a:rPr>
              <a:t>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3280" y="6453360"/>
            <a:ext cx="10810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3280" y="65181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43280" y="652464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6381720"/>
            <a:ext cx="936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8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57340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 с един принос Той е усъвършенствал завинаги онези, които с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ос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щават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9966"/>
                </a:solidFill>
                <a:latin typeface="Tahoma"/>
              </a:rPr>
              <a:t>Евр. 10:14;</a:t>
            </a:r>
            <a:r>
              <a:rPr b="0" lang="ru-RU" sz="2800" spc="-1" strike="noStrike">
                <a:solidFill>
                  <a:srgbClr val="ff99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4797360"/>
            <a:ext cx="9144000" cy="21045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ръвта на </a:t>
            </a:r>
            <a:r>
              <a:rPr b="0" lang="ru-RU" sz="2600" spc="-1" strike="noStrike">
                <a:solidFill>
                  <a:srgbClr val="ffffcc"/>
                </a:solidFill>
                <a:latin typeface="Tahoma"/>
              </a:rPr>
              <a:t>Христос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 единствена е </a:t>
            </a:r>
            <a:r>
              <a:rPr b="0" lang="ru-RU" sz="2600" spc="-1" strike="noStrike">
                <a:solidFill>
                  <a:srgbClr val="ffffcc"/>
                </a:solidFill>
                <a:latin typeface="Tahoma"/>
              </a:rPr>
              <a:t>способна 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да ни </a:t>
            </a:r>
            <a:r>
              <a:rPr b="0" lang="ru-RU" sz="2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2600" spc="-1" strike="noStrike">
                <a:solidFill>
                  <a:srgbClr val="ffffcc"/>
                </a:solidFill>
                <a:latin typeface="Tahoma"/>
              </a:rPr>
              <a:t>купи 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(1Петр. 1:18,19), 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да ни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Tahoma"/>
              </a:rPr>
              <a:t>оправда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е 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(Рим. 5:9),</a:t>
            </a:r>
            <a:r>
              <a:rPr b="0" lang="ru-RU" sz="2600" spc="-1" strike="noStrike">
                <a:solidFill>
                  <a:srgbClr val="ffffcc"/>
                </a:solidFill>
                <a:latin typeface="Tahoma"/>
              </a:rPr>
              <a:t> да ни очисти от всяко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 беззаконие 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(1 Ин. 1:7</a:t>
            </a:r>
            <a:r>
              <a:rPr b="0" lang="ru-RU" sz="2600" spc="-1" strike="noStrike">
                <a:solidFill>
                  <a:srgbClr val="ffffcc"/>
                </a:solidFill>
                <a:latin typeface="Tahoma"/>
              </a:rPr>
              <a:t>), 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да покрие вината на</a:t>
            </a:r>
            <a:r>
              <a:rPr b="0" lang="ru-RU" sz="2600" spc="-1" strike="noStrike">
                <a:solidFill>
                  <a:srgbClr val="ffffcc"/>
                </a:solidFill>
                <a:latin typeface="Tahoma"/>
              </a:rPr>
              <a:t> мно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жеството наши</a:t>
            </a:r>
            <a:r>
              <a:rPr b="0" lang="ru-RU" sz="2600" spc="-1" strike="noStrike">
                <a:solidFill>
                  <a:srgbClr val="ffffcc"/>
                </a:solidFill>
                <a:latin typeface="Tahoma"/>
              </a:rPr>
              <a:t> грехов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е 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(М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ат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. 26:27, 28)</a:t>
            </a:r>
            <a:r>
              <a:rPr b="0" lang="ru-RU" sz="26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да </a:t>
            </a:r>
            <a:r>
              <a:rPr b="0" lang="ru-RU" sz="2600" spc="-1" strike="noStrike">
                <a:solidFill>
                  <a:srgbClr val="ffffcc"/>
                </a:solidFill>
                <a:latin typeface="Tahoma"/>
              </a:rPr>
              <a:t>примири гре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шните хора със</a:t>
            </a:r>
            <a:r>
              <a:rPr b="0" lang="ru-RU" sz="2600" spc="-1" strike="noStrike">
                <a:solidFill>
                  <a:srgbClr val="ffffcc"/>
                </a:solidFill>
                <a:latin typeface="Tahoma"/>
              </a:rPr>
              <a:t> свят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2600" spc="-1" strike="noStrike">
                <a:solidFill>
                  <a:srgbClr val="ffffcc"/>
                </a:solidFill>
                <a:latin typeface="Tahoma"/>
              </a:rPr>
              <a:t> Бог 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(Кол. 1:2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756720" cy="7545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2133720"/>
            <a:ext cx="439272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 почти мога да кажа, че по закона всичко с кръв се очиства; и без проливането на кръв няма прощени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»      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3600" spc="-1" strike="noStrike">
                <a:solidFill>
                  <a:srgbClr val="ff9966"/>
                </a:solidFill>
                <a:latin typeface="Tahoma"/>
              </a:rPr>
              <a:t>Евр. 9:22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756720" cy="7545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2133720"/>
            <a:ext cx="439272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773360"/>
            <a:ext cx="4608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cc66"/>
                </a:solidFill>
                <a:latin typeface="Tahoma"/>
              </a:rPr>
              <a:t>В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 отношени</a:t>
            </a:r>
            <a:r>
              <a:rPr b="0" i="1" lang="bg-BG" sz="3200" spc="-1" strike="noStrike">
                <a:solidFill>
                  <a:srgbClr val="ffcc66"/>
                </a:solidFill>
                <a:latin typeface="Tahoma"/>
              </a:rPr>
              <a:t>е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 к</a:t>
            </a:r>
            <a:r>
              <a:rPr b="0" i="1" lang="bg-BG" sz="3200" spc="-1" strike="noStrike">
                <a:solidFill>
                  <a:srgbClr val="ffcc66"/>
                </a:solidFill>
                <a:latin typeface="Tahoma"/>
              </a:rPr>
              <a:t>ъм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 Бог</a:t>
            </a:r>
            <a:r>
              <a:rPr b="0" i="1" lang="bg-BG" sz="3200" spc="-1" strike="noStrike">
                <a:solidFill>
                  <a:srgbClr val="ffcc66"/>
                </a:solidFill>
                <a:latin typeface="Tahoma"/>
              </a:rPr>
              <a:t>а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349740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492280"/>
            <a:ext cx="46083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Защото, ак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o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бидохме примирени с Бога чрез смъртт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[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Кръвта, стих 9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]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н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а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Му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(Рим. 5:10).</a:t>
            </a: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4581360"/>
            <a:ext cx="44640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И т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й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оправда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ни чрез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имам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мир с Бог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чрез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нашия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Господ Исус Христ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» 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(Рим. 5:1).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756720" cy="7545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95280" y="2133720"/>
            <a:ext cx="439272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205000"/>
            <a:ext cx="53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В отношени</a:t>
            </a:r>
            <a:r>
              <a:rPr b="0" i="1" lang="bg-BG" sz="3200" spc="-1" strike="noStrike">
                <a:solidFill>
                  <a:srgbClr val="ffcc66"/>
                </a:solidFill>
                <a:latin typeface="Tahoma"/>
              </a:rPr>
              <a:t>е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 к</a:t>
            </a:r>
            <a:r>
              <a:rPr b="0" i="1" lang="bg-BG" sz="3200" spc="-1" strike="noStrike">
                <a:solidFill>
                  <a:srgbClr val="ffcc66"/>
                </a:solidFill>
                <a:latin typeface="Tahoma"/>
              </a:rPr>
              <a:t>ъм хората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3357720"/>
            <a:ext cx="460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Блаже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он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човек, к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му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Господ не вменява беззаконие и в ч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й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дух 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ма измам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!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cc66"/>
                </a:solidFill>
                <a:latin typeface="Arial"/>
              </a:rPr>
              <a:t>(Пс. 3</a:t>
            </a:r>
            <a:r>
              <a:rPr b="0" i="1" lang="bg-BG" sz="28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ffcc66"/>
                </a:solidFill>
                <a:latin typeface="Arial"/>
              </a:rPr>
              <a:t>:2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756720" cy="7545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2133720"/>
            <a:ext cx="439272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349740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2276640"/>
            <a:ext cx="5327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В отношени</a:t>
            </a:r>
            <a:r>
              <a:rPr b="0" i="1" lang="bg-BG" sz="3200" spc="-1" strike="noStrike">
                <a:solidFill>
                  <a:srgbClr val="ffcc66"/>
                </a:solidFill>
                <a:latin typeface="Tahoma"/>
              </a:rPr>
              <a:t>е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 к</a:t>
            </a:r>
            <a:r>
              <a:rPr b="0" i="1" lang="bg-BG" sz="3200" spc="-1" strike="noStrike">
                <a:solidFill>
                  <a:srgbClr val="ffcc66"/>
                </a:solidFill>
                <a:latin typeface="Tahoma"/>
              </a:rPr>
              <a:t>ъм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 сатан</a:t>
            </a:r>
            <a:r>
              <a:rPr b="0" i="1" lang="bg-BG" sz="3200" spc="-1" strike="noStrike">
                <a:solidFill>
                  <a:srgbClr val="ffcc66"/>
                </a:solidFill>
                <a:latin typeface="Tahoma"/>
              </a:rPr>
              <a:t>а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573360"/>
            <a:ext cx="4319640" cy="278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е го победих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[сата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г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ит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обвинения]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чрез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кръ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а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Аг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»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ffcc66"/>
                </a:solidFill>
                <a:latin typeface="Tahoma"/>
              </a:rPr>
              <a:t>      </a:t>
            </a:r>
            <a:r>
              <a:rPr b="0" i="1" lang="bg-BG" sz="3200" spc="-1" strike="noStrike">
                <a:solidFill>
                  <a:srgbClr val="ffcc66"/>
                </a:solidFill>
                <a:latin typeface="Tahoma"/>
              </a:rPr>
              <a:t>Откр. 12: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1773360"/>
            <a:ext cx="500364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Бог ли, Който ги оправдава? Кой е оня, който ще ги осъди?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Христос Исус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ли, Който умря, а при това и бид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зкресен от мъртвите, Който е от дясната страна на Бога, и Кой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ходатайст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за нас?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6000" y="69228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Рим. 8: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828360" cy="7545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4556160"/>
            <a:ext cx="835344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 това се усъвършенства л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юбо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а в нас, когато имаме дръзновение в съдния ден, защото, както е Той, така сме и ние в тоя свя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(1 Ин. 4:1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901080" cy="760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685440" cy="737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972720" cy="765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901080" cy="754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1557360"/>
            <a:ext cx="4859280" cy="54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с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ког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осим в 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то си убиването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Господа Исуса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 да се яви на тялото ни 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ота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Исуса.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 ние живите винаги см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ред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ни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м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Исуса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 да се яв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ота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Исус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в нашата смъртна плът.</a:t>
            </a:r>
            <a:r>
              <a:rPr b="0" lang="bg-BG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6922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9966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9966"/>
                </a:solidFill>
                <a:latin typeface="Tahoma"/>
              </a:rPr>
              <a:t>Кор. 4:10,11</a:t>
            </a: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1557360"/>
            <a:ext cx="349236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щото словото на кръста е безумие за тия, които погиват; а за нас, които се спасяваме, то 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Божия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сил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692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66"/>
                </a:solidFill>
                <a:latin typeface="Tahoma"/>
              </a:rPr>
              <a:t>1 Кор. 1: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404640"/>
            <a:ext cx="7416720" cy="49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. Ког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Христос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 р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а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три фактора съществено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а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влияли на ж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ота на всек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щ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е се свеждат д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лед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о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. Т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оето са извършил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 Хри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а к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атана и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вет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. Т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ое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ог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е извършил съ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воя С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 на к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. Т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ое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ог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е извършил з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човечест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в Хри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а к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050920" y="6165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6093000"/>
            <a:ext cx="6050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476280"/>
            <a:ext cx="7380360" cy="49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2. Сатана и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вет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роявили безуслов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енавист 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м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Хри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а к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преда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йки Го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отк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поругани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 Ког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вземем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ърху себе с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к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Хри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с,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к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аш собствен, сатана и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вета щ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роявят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ъщат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енавист по отношен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 и на на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 Библ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т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аз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т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«с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лаз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а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к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а» </a:t>
            </a: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(Гал. 5:1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35280" y="6093000"/>
            <a:ext cx="69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44280"/>
            <a:ext cx="7740720" cy="606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3. Бог в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зложил грех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овете на всек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човек на Христ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Новия Завет наз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овава тов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Кр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та н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Христ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. Кр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та н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Христ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означа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ва най-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ш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жертв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-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Неговия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Божествен жи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вот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отдаден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 зам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яна н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наш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ос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ен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на смърт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вот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Б. «Кр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»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на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Христ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примир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гре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шнит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чове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шк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щества с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с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свят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Б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. «Кръв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»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на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Христос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н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избав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от виновн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е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Г. С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с С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о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ят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«Кр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» Христос може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д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опроверг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ае всяко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обвинение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дявола, на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сочено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против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76360" y="115920"/>
            <a:ext cx="7199280" cy="606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. Бог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при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съединил цялото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човечество к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м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см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т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та н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Своя С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,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за да н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освободи от сил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ата н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гр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. Грех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т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не е само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нарушение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закона, то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ва е 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сила,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която ни държи в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п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Б. К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олкото и да е чудесно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прощение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то 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недостат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чно.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Ние с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нуждаем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от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избавлени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от гр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.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Чрез кръвта н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Христ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греховн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т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действия мог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ат да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б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дат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про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стен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но наше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греховно естество не може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д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б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д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про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стено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—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то трябва да бъд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уни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щожено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или ра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зпнато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5280" y="609300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619280" y="1077840"/>
            <a:ext cx="6985080" cy="399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5. Греховн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чове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шк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естество не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може да с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реобраз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;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е може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д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т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угод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ог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то защ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ог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ни 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ъединил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м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м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а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в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ин.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ие сме били разпнат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«в Хри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», и в зам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ог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н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д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ам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от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Ису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8000" y="6165720"/>
            <a:ext cx="60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05120" y="9907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1876320"/>
            <a:ext cx="7274160" cy="506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еова – Аз съм Оня, Който съ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еова-ире – Господ ще проми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еова-рафа – Господ който те изцеля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еова-нисий – Господ мое зна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еова-шалом – Господ на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еова-ра-ах – Господ е мой паст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еова-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sidkenu –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Господ наша прав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еова-шама – Господ е т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83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11280" y="1371600"/>
            <a:ext cx="6094440" cy="529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Принципъ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кръс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592360" cy="717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2349360"/>
            <a:ext cx="3960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Защото словото на кръста е безумие за тия, които погиват; а за нас, които се спасяваме, то е Божия сил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692280"/>
            <a:ext cx="2089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1 Кор</a:t>
            </a:r>
            <a:r>
              <a:rPr b="0" lang="bg-BG" sz="2800" spc="-1" strike="noStrike">
                <a:solidFill>
                  <a:srgbClr val="ff9966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 1: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1557360"/>
            <a:ext cx="410544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гава Исус каза на учениците Си: Ако иска някой да дойде след Мене, нека се отрече от себе си, нека дигне кръста си, и </a:t>
            </a:r>
            <a:r>
              <a:rPr b="0" i="1" lang="bg-BG" sz="3600" spc="-1" strike="noStrike">
                <a:solidFill>
                  <a:srgbClr val="ffffcc"/>
                </a:solidFill>
                <a:latin typeface="Tahoma"/>
              </a:rPr>
              <a:t>так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нека Ме последва.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692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66"/>
                </a:solidFill>
                <a:latin typeface="Tahoma"/>
              </a:rPr>
              <a:t>Мат. 16:24; Лк. 9:23; 14:27</a:t>
            </a: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3132360" cy="2390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300720" y="2133720"/>
            <a:ext cx="3132360" cy="2409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300720" y="4292640"/>
            <a:ext cx="2843280" cy="2565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987640" y="4280040"/>
            <a:ext cx="3313080" cy="2577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693800" cy="2133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-108000" y="4265640"/>
            <a:ext cx="3167280" cy="2619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0" y="2060640"/>
            <a:ext cx="1697040" cy="223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3132000" y="0"/>
            <a:ext cx="3205440" cy="167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557360"/>
            <a:ext cx="36352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далеч от мене да с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хвал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 освен 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к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 на наши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Господ Исус Хри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чрез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й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светът за мене 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р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а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и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з за света.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692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66"/>
                </a:solidFill>
                <a:latin typeface="Tahoma"/>
              </a:rPr>
              <a:t>Гал. 6: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9:59:53Z</dcterms:created>
  <dc:creator>zxy</dc:creator>
  <dc:description/>
  <dc:language>en-US</dc:language>
  <cp:lastModifiedBy>zxy</cp:lastModifiedBy>
  <dcterms:modified xsi:type="dcterms:W3CDTF">2003-07-11T11:56:09Z</dcterms:modified>
  <cp:revision>21</cp:revision>
  <dc:subject/>
  <dc:title>Slide 1</dc:title>
</cp:coreProperties>
</file>